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EA9-5744-424A-8D21-C3276BF4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03C-943A-44EF-9ED2-83919ED6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71B-CBB9-42A9-BFCE-AC248B5C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507-9A7F-42AD-B58A-DBE2BF65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73C-FE9A-46A7-BB28-2034186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E7F-D21D-4889-871F-24D62F3B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C9F-594D-4B3D-B22A-31B2299B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4CF-9ED5-4228-A322-0058975F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FB6-0BCB-4812-9934-A84F5162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59C-B8EE-4357-892F-5AE967E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9E2-E8EB-4E22-A93C-08F3624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565-2834-4D79-8A6F-C785A33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706A-3279-4A1E-AAD7-3BE5F57CC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9917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1628640"/>
            <a:ext cx="4824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5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72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F THE SUN DIDN’T RISE TOMORROW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92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ULD WE LIVE WITHOUT L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87280" y="4653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y Day – 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M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spring time everything is made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2276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Equi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314172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ld New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4653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becomes Pre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2761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22720" y="54000"/>
            <a:ext cx="5021280" cy="680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2968920" cy="165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9640" y="1989000"/>
            <a:ext cx="2194200" cy="1974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9640" y="4076640"/>
            <a:ext cx="2511360" cy="1951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578560" y="1619280"/>
            <a:ext cx="1873080" cy="1449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633760" cy="149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60760" y="495360"/>
            <a:ext cx="4683240" cy="6362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2879640" cy="2226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4000" y="1844640"/>
            <a:ext cx="251136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635280" y="0"/>
            <a:ext cx="5605560" cy="65977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611280" y="3716280"/>
            <a:ext cx="3066840" cy="2017800"/>
            <a:chOff x="611280" y="3716280"/>
            <a:chExt cx="3066840" cy="2017800"/>
          </a:xfrm>
        </p:grpSpPr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611280" y="3716280"/>
              <a:ext cx="3066840" cy="1914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1" name=""/>
            <p:cNvSpPr/>
            <p:nvPr/>
          </p:nvSpPr>
          <p:spPr>
            <a:xfrm>
              <a:off x="900000" y="5229360"/>
              <a:ext cx="360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003640" y="981000"/>
            <a:ext cx="2951280" cy="2316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7920" y="404640"/>
            <a:ext cx="4726080" cy="6161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757080"/>
            <a:ext cx="4356000" cy="61009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68360" y="260280"/>
            <a:ext cx="5184720" cy="1655640"/>
            <a:chOff x="468360" y="260280"/>
            <a:chExt cx="5184720" cy="1655640"/>
          </a:xfrm>
        </p:grpSpPr>
        <p:grpSp>
          <p:nvGrpSpPr>
            <p:cNvPr id="136" name=""/>
            <p:cNvGrpSpPr/>
            <p:nvPr/>
          </p:nvGrpSpPr>
          <p:grpSpPr>
            <a:xfrm>
              <a:off x="468360" y="260280"/>
              <a:ext cx="5184720" cy="1655640"/>
              <a:chOff x="468360" y="260280"/>
              <a:chExt cx="5184720" cy="16556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404640"/>
                <a:ext cx="5022720" cy="15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3853080" y="260280"/>
                <a:ext cx="1800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205080" y="2602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651640" y="1557360"/>
            <a:ext cx="2305080" cy="178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11280" y="1989000"/>
            <a:ext cx="3749760" cy="1255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11280" y="3500280"/>
            <a:ext cx="3529080" cy="1511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755640" y="-387360"/>
            <a:ext cx="4248000" cy="2448000"/>
            <a:chOff x="755640" y="-387360"/>
            <a:chExt cx="4248000" cy="24480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755640" y="-171360"/>
              <a:ext cx="362736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211640" y="-387360"/>
              <a:ext cx="79200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341960" y="0"/>
            <a:ext cx="499248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6758" t="11122" r="18980" b="2249"/>
          <a:stretch/>
        </p:blipFill>
        <p:spPr>
          <a:xfrm>
            <a:off x="5651640" y="1268280"/>
            <a:ext cx="2220840" cy="376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1773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darkest day of the y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501336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ght retur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314172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reation gives birth to her cre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58000" cy="6067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rot="16200000">
            <a:off x="401760" y="1118520"/>
            <a:ext cx="164268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heel Is 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03280" y="40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Father Holds it with C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017960" cy="5167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005520" cy="6545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238720" cy="616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24000" y="0"/>
            <a:ext cx="5261040" cy="6524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484360" y="333360"/>
            <a:ext cx="4338720" cy="5959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95640" y="57340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n will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332000" y="-316080"/>
            <a:ext cx="6626160" cy="7490160"/>
          </a:xfrm>
          <a:prstGeom prst="rect">
            <a:avLst/>
          </a:prstGeom>
          <a:ln w="0">
            <a:noFill/>
          </a:ln>
        </p:spPr>
      </p:pic>
    </p:spTree>
  </p:cSld>
  <p:transition spd="med" advTm="121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0:36:28Z</dcterms:created>
  <dc:creator> </dc:creator>
  <dc:description/>
  <dc:language>en-US</dc:language>
  <cp:lastModifiedBy> </cp:lastModifiedBy>
  <dcterms:modified xsi:type="dcterms:W3CDTF">2005-12-03T14:50:12Z</dcterms:modified>
  <cp:revision>15</cp:revision>
  <dc:subject/>
  <dc:title>Slide 1</dc:title>
</cp:coreProperties>
</file>