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492-AE18-4B9F-90C8-267DA060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FF7-5BFD-43C2-9F5D-4518C9AF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A3A-63AE-4526-BD3B-8333E7C3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E06-69BA-44B6-A2FF-7A81E163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C12-71C4-4A95-9AE5-CEE1C9F1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8E8-F472-4897-BD8F-C7DE170B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06A-744A-4915-9CFE-0C53D476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B55-F6C2-4252-8134-DAC66572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D20-1906-4689-B7EF-A8DBA6AC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F65-23D6-4308-B363-6A2558E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3E2-2E91-42D1-ABB1-07873589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180-B754-4E0E-9D86-800C0FF9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BD7B-C749-4658-AEF7-EF3B07637A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151520" cy="5641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-100080"/>
            <a:ext cx="7057800" cy="7058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46400" cy="5497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4505400" cy="6191280"/>
          </a:xfrm>
          <a:prstGeom prst="rect">
            <a:avLst/>
          </a:prstGeom>
          <a:ln w="0">
            <a:noFill/>
          </a:ln>
        </p:spPr>
      </p:pic>
    </p:spTree>
  </p:cSld>
  <p:transition spd="med" advTm="38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0:36:28Z</dcterms:created>
  <dc:creator> </dc:creator>
  <dc:description/>
  <dc:language>en-US</dc:language>
  <cp:lastModifiedBy> </cp:lastModifiedBy>
  <dcterms:modified xsi:type="dcterms:W3CDTF">2005-12-18T09:00:59Z</dcterms:modified>
  <cp:revision>17</cp:revision>
  <dc:subject/>
  <dc:title>Slide 1</dc:title>
</cp:coreProperties>
</file>