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42C-7DC3-4484-B2D0-4C72E045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350-FCF9-405D-840A-7F72CB4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2B9-5504-417F-90F1-AD919CCF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72F-4B5E-4BFE-82F4-C00A4A2C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65A-B8AF-467D-9CF6-755EEF21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8FC-07E8-43EF-8FA6-659E911C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194-2533-4CB1-ACBD-AD24F41D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A4C-0DAE-4DB0-A36E-EAF4E785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7A7-5967-441E-8D32-78621C86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347-9472-4D8E-B5FB-952DD2E5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735-3DB8-4345-847B-6D882764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5DD-3789-4D67-ADBF-45AB7E3D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D9DB-DB95-4543-BA1E-D14B9036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38280" y="115920"/>
            <a:ext cx="583740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333360"/>
            <a:ext cx="69850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the days grow sh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e darkness lasts l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light a candle to remember that God holds the wheel of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that at it’s centre is L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gives us h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837400" cy="659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620640"/>
            <a:ext cx="6985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we approach the end of our y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light a candle to remember that in the birth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have Hope, and a new life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40:31Z</dcterms:created>
  <dc:creator> </dc:creator>
  <dc:description/>
  <dc:language>en-US</dc:language>
  <cp:lastModifiedBy> </cp:lastModifiedBy>
  <dcterms:modified xsi:type="dcterms:W3CDTF">2005-12-03T15:42:23Z</dcterms:modified>
  <cp:revision>2</cp:revision>
  <dc:subject/>
  <dc:title>Slide 1</dc:title>
</cp:coreProperties>
</file>