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5AEB-CE28-4B1F-B43F-34F5DC4D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D64-FC04-415B-800F-D89E0C60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D59-7525-48C9-9732-0DEB9CEA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2780-96C4-4818-BA92-6C2C551E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749-6ADF-49C5-86E7-DE748186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F29A-8A8D-4188-89AD-E4460245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B4AA-2D1F-4763-B539-D019381E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19B-DDE9-483C-A3A2-FDB566B0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F41-48F8-424E-9ACA-9F63FBAC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5FB1-E3A8-4F31-BEE5-B74D43F0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F87-D7E8-41A2-A154-9D099414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0FEE-C4F4-4EF8-B153-BBF9F57C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4061-C810-4C93-8218-9568D76D5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4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4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151520" cy="5641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9917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475160" cy="5465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64040" cy="5506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4046400" cy="5497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93920" y="404640"/>
            <a:ext cx="4956120" cy="5832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778640" cy="623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418280" cy="5524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93920" y="404640"/>
            <a:ext cx="4956120" cy="5832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475160" cy="5465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64040" cy="5506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151520" cy="5641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93920" y="404640"/>
            <a:ext cx="4956120" cy="5832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778640" cy="6230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418280" cy="5524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475160" cy="5465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64040" cy="5506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4046400" cy="5497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93920" y="404640"/>
            <a:ext cx="4956120" cy="5832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778640" cy="6230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778640" cy="6230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418280" cy="552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79640" y="1628640"/>
            <a:ext cx="4824360" cy="34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TOP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5000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720" y="134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F THE SUN DIDN’T RISE TOMORROW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2924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COULD WE LIVE WITHOUT L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87280" y="465300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dy Day – 2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Mar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981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spring time everything is made 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2276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Equin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3141720"/>
            <a:ext cx="52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ncient New 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465300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y becomes preg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0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22720" y="54000"/>
            <a:ext cx="5021280" cy="680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2968920" cy="1652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796000" y="1844640"/>
            <a:ext cx="1428840" cy="1104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39640" y="1989000"/>
            <a:ext cx="2194200" cy="1974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39640" y="4076640"/>
            <a:ext cx="2511360" cy="1951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5578560" y="1619280"/>
            <a:ext cx="1873080" cy="1449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633760" cy="1494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460760" y="495360"/>
            <a:ext cx="4683240" cy="6362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292720" y="1052640"/>
            <a:ext cx="2879640" cy="2226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24000" y="1844640"/>
            <a:ext cx="251136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635280" y="0"/>
            <a:ext cx="5605560" cy="65977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611280" y="3716280"/>
            <a:ext cx="3066840" cy="2017800"/>
            <a:chOff x="611280" y="3716280"/>
            <a:chExt cx="3066840" cy="2017800"/>
          </a:xfrm>
        </p:grpSpPr>
        <p:pic>
          <p:nvPicPr>
            <p:cNvPr id="130" name="" descr=""/>
            <p:cNvPicPr/>
            <p:nvPr/>
          </p:nvPicPr>
          <p:blipFill>
            <a:blip r:embed="rId6"/>
            <a:stretch/>
          </p:blipFill>
          <p:spPr>
            <a:xfrm>
              <a:off x="611280" y="3716280"/>
              <a:ext cx="3066840" cy="19144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31" name=""/>
            <p:cNvSpPr/>
            <p:nvPr/>
          </p:nvSpPr>
          <p:spPr>
            <a:xfrm>
              <a:off x="900000" y="5229360"/>
              <a:ext cx="36036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5003640" y="981000"/>
            <a:ext cx="2951280" cy="23162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5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75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17920" y="404640"/>
            <a:ext cx="4726080" cy="6161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88000" y="757080"/>
            <a:ext cx="4356000" cy="61009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468360" y="260280"/>
            <a:ext cx="5184720" cy="1655640"/>
            <a:chOff x="468360" y="260280"/>
            <a:chExt cx="5184720" cy="1655640"/>
          </a:xfrm>
        </p:grpSpPr>
        <p:grpSp>
          <p:nvGrpSpPr>
            <p:cNvPr id="136" name=""/>
            <p:cNvGrpSpPr/>
            <p:nvPr/>
          </p:nvGrpSpPr>
          <p:grpSpPr>
            <a:xfrm>
              <a:off x="468360" y="260280"/>
              <a:ext cx="5184720" cy="1655640"/>
              <a:chOff x="468360" y="260280"/>
              <a:chExt cx="5184720" cy="1655640"/>
            </a:xfrm>
          </p:grpSpPr>
          <p:pic>
            <p:nvPicPr>
              <p:cNvPr id="13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360" y="404640"/>
                <a:ext cx="5022720" cy="151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3853080" y="260280"/>
                <a:ext cx="180000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205080" y="2602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651640" y="1557360"/>
            <a:ext cx="2305080" cy="1782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11280" y="1989000"/>
            <a:ext cx="3749760" cy="1255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11280" y="3500280"/>
            <a:ext cx="3529080" cy="15112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755640" y="-387360"/>
            <a:ext cx="4248000" cy="2448000"/>
            <a:chOff x="755640" y="-387360"/>
            <a:chExt cx="4248000" cy="24480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755640" y="-171360"/>
              <a:ext cx="362736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211640" y="-387360"/>
              <a:ext cx="792000" cy="24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341960" y="0"/>
            <a:ext cx="499248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16758" t="11122" r="18980" b="2249"/>
          <a:stretch/>
        </p:blipFill>
        <p:spPr>
          <a:xfrm>
            <a:off x="5651640" y="1268280"/>
            <a:ext cx="2220840" cy="3768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4000" y="1773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darkest day of the y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5013360"/>
            <a:ext cx="59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Light retur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3141720"/>
            <a:ext cx="41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reation gives birth to her cre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82560" y="9360"/>
            <a:ext cx="606744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rot="16200000">
            <a:off x="401760" y="1118520"/>
            <a:ext cx="164268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heel Is T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2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03280" y="40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Father Holds it with C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4017960" cy="51674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005520" cy="6545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238720" cy="6165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24000" y="0"/>
            <a:ext cx="5261040" cy="6524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2484360" y="333360"/>
            <a:ext cx="4338720" cy="5959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195640" y="573408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n will Re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1332000" y="-316080"/>
            <a:ext cx="6626160" cy="7490160"/>
          </a:xfrm>
          <a:prstGeom prst="rect">
            <a:avLst/>
          </a:prstGeom>
          <a:ln w="0">
            <a:noFill/>
          </a:ln>
        </p:spPr>
      </p:pic>
    </p:spTree>
  </p:cSld>
  <p:transition spd="med" advTm="121000">
    <p:fad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8000"/>
                            </p:stCondLst>
                            <p:childTnLst>
                              <p:par>
                                <p:cTn id="4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418280" cy="5524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0:36:28Z</dcterms:created>
  <dc:creator> </dc:creator>
  <dc:description/>
  <dc:language>en-US</dc:language>
  <cp:lastModifiedBy> </cp:lastModifiedBy>
  <dcterms:modified xsi:type="dcterms:W3CDTF">2005-12-03T15:33:28Z</dcterms:modified>
  <cp:revision>16</cp:revision>
  <dc:subject/>
  <dc:title>Slide 1</dc:title>
</cp:coreProperties>
</file>