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C728-A39E-4BF7-B674-912CF3804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B72E-C709-498E-9E48-88882F6ED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C664-BF4D-4452-90E7-D39DDF17C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0F0C-393C-49E8-9014-CCF78FFCA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187D-EBD9-4649-80B3-6B2393AE2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E34B-F80D-44EB-8E55-DA1B57F14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BA93-CC7E-4DDD-80D4-D362660AE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A131-3077-471E-8EF1-E7D389DAC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A426-A859-4E40-91FD-304A85797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B268-AD9A-4E02-835F-18846B46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9E37-C49B-4C27-B02A-F5C6E1C7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0009-9DDE-4E8C-86C3-708A81BC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0CA9-3D65-40F8-848D-83ABA3657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4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24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484360" y="476280"/>
            <a:ext cx="4151520" cy="56419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991720" y="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411280" y="692280"/>
            <a:ext cx="4475160" cy="54655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 thruBlk="true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484360" y="476280"/>
            <a:ext cx="4064040" cy="5506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fade thruBlk="true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4046400" cy="5497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 thruBlk="true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93920" y="404640"/>
            <a:ext cx="4956120" cy="5832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 thruBlk="true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4778640" cy="6230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 thruBlk="true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68360" y="620640"/>
            <a:ext cx="4418280" cy="55245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 thruBlk="true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93920" y="404640"/>
            <a:ext cx="4956120" cy="5832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 thruBlk="true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411280" y="692280"/>
            <a:ext cx="4475160" cy="54655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fade thruBlk="true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484360" y="476280"/>
            <a:ext cx="4064040" cy="5506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 thruBlk="true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484360" y="476280"/>
            <a:ext cx="4151520" cy="56419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 thruBlk="true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293920" y="404640"/>
            <a:ext cx="4956120" cy="5832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 thruBlk="true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4778640" cy="6230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 thruBlk="true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268360" y="620640"/>
            <a:ext cx="4418280" cy="55245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 thruBlk="true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411280" y="692280"/>
            <a:ext cx="4475160" cy="54655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 thruBlk="true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484360" y="476280"/>
            <a:ext cx="4064040" cy="5506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 thruBlk="true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4046400" cy="5497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 thruBlk="true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93920" y="404640"/>
            <a:ext cx="4956120" cy="5832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 thruBlk="true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4778640" cy="6230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fade thruBlk="true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4778640" cy="62308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 thruBlk="true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68360" y="620640"/>
            <a:ext cx="4418280" cy="5524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 thruBlk="true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979640" y="1628640"/>
            <a:ext cx="4824360" cy="34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STOP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 advTm="5000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2720" y="1341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IF THE SUN DIDN’T RISE TOMORROW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71640" y="29242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COULD WE LIVE WITHOUT LIGH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0"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187280" y="4653000"/>
            <a:ext cx="698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dy Day – 25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f Mar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98100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spring time everything is made n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42920" y="227664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 Equin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84720" y="3141720"/>
            <a:ext cx="40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old New Y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87280" y="4653000"/>
            <a:ext cx="698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y becomes Pregn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50000">
    <p:fad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5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122720" y="54000"/>
            <a:ext cx="5021280" cy="6804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826920" y="549360"/>
            <a:ext cx="2968920" cy="16524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5796000" y="1844640"/>
            <a:ext cx="1428840" cy="11048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539640" y="1989000"/>
            <a:ext cx="2194200" cy="19749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539640" y="4076640"/>
            <a:ext cx="2511360" cy="19512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5578560" y="1619280"/>
            <a:ext cx="1873080" cy="144936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fad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6500"/>
                            </p:stCondLst>
                            <p:childTnLst>
                              <p:par>
                                <p:cTn id="2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85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2633760" cy="1494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460760" y="495360"/>
            <a:ext cx="4683240" cy="6362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5292720" y="1052640"/>
            <a:ext cx="2879640" cy="22269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324000" y="1844640"/>
            <a:ext cx="2511360" cy="2133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3635280" y="0"/>
            <a:ext cx="5605560" cy="6597720"/>
          </a:xfrm>
          <a:prstGeom prst="rect">
            <a:avLst/>
          </a:prstGeom>
          <a:ln w="0">
            <a:noFill/>
          </a:ln>
        </p:spPr>
      </p:pic>
      <p:grpSp>
        <p:nvGrpSpPr>
          <p:cNvPr id="129" name=""/>
          <p:cNvGrpSpPr/>
          <p:nvPr/>
        </p:nvGrpSpPr>
        <p:grpSpPr>
          <a:xfrm>
            <a:off x="611280" y="3716280"/>
            <a:ext cx="3066840" cy="2017800"/>
            <a:chOff x="611280" y="3716280"/>
            <a:chExt cx="3066840" cy="2017800"/>
          </a:xfrm>
        </p:grpSpPr>
        <p:pic>
          <p:nvPicPr>
            <p:cNvPr id="130" name="" descr=""/>
            <p:cNvPicPr/>
            <p:nvPr/>
          </p:nvPicPr>
          <p:blipFill>
            <a:blip r:embed="rId6"/>
            <a:stretch/>
          </p:blipFill>
          <p:spPr>
            <a:xfrm>
              <a:off x="611280" y="3716280"/>
              <a:ext cx="3066840" cy="191448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sp>
          <p:nvSpPr>
            <p:cNvPr id="131" name=""/>
            <p:cNvSpPr/>
            <p:nvPr/>
          </p:nvSpPr>
          <p:spPr>
            <a:xfrm>
              <a:off x="900000" y="5229360"/>
              <a:ext cx="36036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" descr=""/>
          <p:cNvPicPr/>
          <p:nvPr/>
        </p:nvPicPr>
        <p:blipFill>
          <a:blip r:embed="rId7"/>
          <a:stretch/>
        </p:blipFill>
        <p:spPr>
          <a:xfrm>
            <a:off x="5003640" y="981000"/>
            <a:ext cx="2951280" cy="231624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fade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4000"/>
                            </p:stCondLst>
                            <p:childTnLst>
                              <p:par>
                                <p:cTn id="2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4500"/>
                            </p:stCondLst>
                            <p:childTnLst>
                              <p:par>
                                <p:cTn id="26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6500"/>
                            </p:stCondLst>
                            <p:childTnLst>
                              <p:par>
                                <p:cTn id="2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750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417920" y="404640"/>
            <a:ext cx="4726080" cy="61614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788000" y="757080"/>
            <a:ext cx="4356000" cy="6100920"/>
          </a:xfrm>
          <a:prstGeom prst="rect">
            <a:avLst/>
          </a:prstGeom>
          <a:ln w="0">
            <a:noFill/>
          </a:ln>
        </p:spPr>
      </p:pic>
      <p:grpSp>
        <p:nvGrpSpPr>
          <p:cNvPr id="135" name=""/>
          <p:cNvGrpSpPr/>
          <p:nvPr/>
        </p:nvGrpSpPr>
        <p:grpSpPr>
          <a:xfrm>
            <a:off x="468360" y="260280"/>
            <a:ext cx="5184720" cy="1655640"/>
            <a:chOff x="468360" y="260280"/>
            <a:chExt cx="5184720" cy="1655640"/>
          </a:xfrm>
        </p:grpSpPr>
        <p:grpSp>
          <p:nvGrpSpPr>
            <p:cNvPr id="136" name=""/>
            <p:cNvGrpSpPr/>
            <p:nvPr/>
          </p:nvGrpSpPr>
          <p:grpSpPr>
            <a:xfrm>
              <a:off x="468360" y="260280"/>
              <a:ext cx="5184720" cy="1655640"/>
              <a:chOff x="468360" y="260280"/>
              <a:chExt cx="5184720" cy="1655640"/>
            </a:xfrm>
          </p:grpSpPr>
          <p:pic>
            <p:nvPicPr>
              <p:cNvPr id="13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68360" y="404640"/>
                <a:ext cx="5022720" cy="151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" name=""/>
              <p:cNvSpPr/>
              <p:nvPr/>
            </p:nvSpPr>
            <p:spPr>
              <a:xfrm>
                <a:off x="3853080" y="260280"/>
                <a:ext cx="1800000" cy="720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3205080" y="26028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5651640" y="1557360"/>
            <a:ext cx="2305080" cy="17827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611280" y="1989000"/>
            <a:ext cx="3749760" cy="1255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611280" y="3500280"/>
            <a:ext cx="3529080" cy="151128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fade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755640" y="-387360"/>
            <a:ext cx="4248000" cy="2448000"/>
            <a:chOff x="755640" y="-387360"/>
            <a:chExt cx="4248000" cy="244800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755640" y="-171360"/>
              <a:ext cx="3627360" cy="201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4211640" y="-387360"/>
              <a:ext cx="792000" cy="244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341960" y="0"/>
            <a:ext cx="4992480" cy="6858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rcRect l="16758" t="11122" r="18980" b="2249"/>
          <a:stretch/>
        </p:blipFill>
        <p:spPr>
          <a:xfrm>
            <a:off x="5651640" y="1268280"/>
            <a:ext cx="2220840" cy="37688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24000" y="177336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darkest day of the yea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5013360"/>
            <a:ext cx="597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Light retur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26920" y="3141720"/>
            <a:ext cx="41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creation gives birth to her crea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0">
    <p:fade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6858000" cy="60674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 rot="16200000">
            <a:off x="401760" y="1118520"/>
            <a:ext cx="164268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Wheel Is Tu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0">
    <p:fade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0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403280" y="40464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r Father Holds it with Ca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484360" y="1268280"/>
            <a:ext cx="4017960" cy="516744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fade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6005520" cy="65451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050920" y="0"/>
            <a:ext cx="5238720" cy="61657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2124000" y="0"/>
            <a:ext cx="5261040" cy="65246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2484360" y="333360"/>
            <a:ext cx="4338720" cy="59594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195640" y="5734080"/>
            <a:ext cx="51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on will Re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1332000" y="-316080"/>
            <a:ext cx="6626160" cy="7490160"/>
          </a:xfrm>
          <a:prstGeom prst="rect">
            <a:avLst/>
          </a:prstGeom>
          <a:ln w="0">
            <a:noFill/>
          </a:ln>
        </p:spPr>
      </p:pic>
    </p:spTree>
  </p:cSld>
  <p:transition spd="med" advTm="121000">
    <p:fade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2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6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000"/>
                            </p:stCondLst>
                            <p:childTnLst>
                              <p:par>
                                <p:cTn id="3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3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0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8000"/>
                            </p:stCondLst>
                            <p:childTnLst>
                              <p:par>
                                <p:cTn id="40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68360" y="620640"/>
            <a:ext cx="4418280" cy="5524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 thruBlk="true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3T00:36:28Z</dcterms:created>
  <dc:creator> </dc:creator>
  <dc:description/>
  <dc:language>en-US</dc:language>
  <cp:lastModifiedBy> </cp:lastModifiedBy>
  <dcterms:modified xsi:type="dcterms:W3CDTF">2005-12-03T14:43:59Z</dcterms:modified>
  <cp:revision>14</cp:revision>
  <dc:subject/>
  <dc:title>Slide 1</dc:title>
</cp:coreProperties>
</file>