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3DF-7553-4A7B-AD8E-45F8C7CA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1CD-E5C5-4A19-9017-1816EE47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DAC-929D-49F3-8215-7A672C3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B93-920C-4EB2-8FD5-0FB6AB30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7FB-41DA-4297-9FF7-0E5B203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ABD-8B13-4D58-B93D-02E5F8B0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C69-5BA6-4327-89A5-DC6C84F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45F-98D0-48F8-A7E2-39313371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AE2-59C4-4B4E-82D0-22124887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53E-DFB6-42B4-BE59-D57A008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4EB-BBC0-40A7-81FE-1FC8613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6AD-B883-4D38-BFE2-CB36F4B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EE98-554E-4C75-8F9E-9056D6030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ape is Y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425760" cy="1176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389040" cy="276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5480" y="4786200"/>
            <a:ext cx="42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5084640"/>
            <a:ext cx="66247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Feb Mar April May June July August Sept Oct Nov D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5950080"/>
            <a:ext cx="57610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 1500  1000 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C 0 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1000 1500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8360" y="1268280"/>
            <a:ext cx="4537080" cy="41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62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57340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306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12536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335772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530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45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y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134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126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s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mbo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00000" y="620640"/>
            <a:ext cx="2881440" cy="3572640"/>
            <a:chOff x="900000" y="620640"/>
            <a:chExt cx="2881440" cy="3572640"/>
          </a:xfrm>
        </p:grpSpPr>
        <p:sp>
          <p:nvSpPr>
            <p:cNvPr id="63" name=""/>
            <p:cNvSpPr/>
            <p:nvPr/>
          </p:nvSpPr>
          <p:spPr>
            <a:xfrm>
              <a:off x="973080" y="620640"/>
              <a:ext cx="28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R O T A 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73080" y="1268280"/>
              <a:ext cx="28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O P E R 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720" y="1987560"/>
              <a:ext cx="28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T E N E 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00" y="3429000"/>
              <a:ext cx="28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S A T O 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73080" y="2636640"/>
              <a:ext cx="28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A R E P 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4074840" y="3133440"/>
            <a:ext cx="56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ERN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325908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PATERNOSTER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ensecter to Pompei to Dura-Euro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7T09:55:31Z</dcterms:created>
  <dc:creator> </dc:creator>
  <dc:description/>
  <dc:language>en-US</dc:language>
  <cp:lastModifiedBy> </cp:lastModifiedBy>
  <dcterms:modified xsi:type="dcterms:W3CDTF">2005-12-01T08:21:08Z</dcterms:modified>
  <cp:revision>5</cp:revision>
  <dc:subject/>
  <dc:title>What Shape is Your Week?</dc:title>
</cp:coreProperties>
</file>