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7E41-54A0-4A36-B34C-B180574DC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3D53-ACD0-4D7A-B05A-A7DDF9D4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C7D8-708E-4740-887B-1D670EF52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2281-5AE4-468D-BCC6-F4BA168BB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B0B4-84DA-48DE-8F4E-72BDD4C0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3AAB-D6A5-48EF-AA1E-601978C5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6548-CC86-485B-8AE7-0E2D48BD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3B1D-E2EC-4EB4-9D67-61353E05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F604-37B9-4A1B-A55E-3BED2A2C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BF82-CAA4-48B8-B3EC-E7B702A3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EDAF-224E-4C04-BA47-C9994388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86E0-709A-42E1-BFD0-D02E640F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9F66-A6B4-4802-B870-3AE98D9C2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4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24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151520" cy="5641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99172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0" dur="1" fill="hold">
                                    <p:stCondLst>
                                      <p:cond evt="end">
                                        <p:tn val="8"/>
                                      </p:cond>
                                    </p:stCondLst>
                                  </p:cTn>
                                  <p:tgtEl>
                                    <p:spTgt spid="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11280" y="692280"/>
            <a:ext cx="4475160" cy="5465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064040" cy="5506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4046400" cy="5497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93920" y="404640"/>
            <a:ext cx="4956120" cy="5832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778640" cy="6230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68360" y="620640"/>
            <a:ext cx="4418280" cy="5524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fade thruBlk="true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93920" y="404640"/>
            <a:ext cx="4956120" cy="5832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411280" y="692280"/>
            <a:ext cx="4475160" cy="5465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fade thruBlk="true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064040" cy="5506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151520" cy="5641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93920" y="404640"/>
            <a:ext cx="4956120" cy="5832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778640" cy="6230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 thruBlk="true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68360" y="620640"/>
            <a:ext cx="4418280" cy="5524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fade thruBlk="true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411280" y="692280"/>
            <a:ext cx="4475160" cy="5465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fade thruBlk="true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064040" cy="5506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4046400" cy="5497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fade thruBlk="true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93920" y="404640"/>
            <a:ext cx="4956120" cy="5832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fade thruBlk="true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778640" cy="6230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778640" cy="6230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 thruBlk="true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68360" y="620640"/>
            <a:ext cx="4418280" cy="5524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 thruBlk="true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979640" y="1628640"/>
            <a:ext cx="4824360" cy="34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TOP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1000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2720" y="1341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IF THE SUN DIDN’T RISE TOMORROW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2924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COULD WE LIVE WITHOUT LIGH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5000"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87280" y="465300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dy Day – 25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f Mar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98100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spring time everything is made 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2276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 Equin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84720" y="3141720"/>
            <a:ext cx="40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old New Y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465300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y becomes Pregn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7000"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122720" y="54000"/>
            <a:ext cx="5021280" cy="6804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26920" y="549360"/>
            <a:ext cx="2968920" cy="1652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796000" y="1844640"/>
            <a:ext cx="1428840" cy="1104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39640" y="1989000"/>
            <a:ext cx="2194200" cy="1974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539640" y="4076640"/>
            <a:ext cx="2511360" cy="1951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5578560" y="1619280"/>
            <a:ext cx="1873080" cy="14493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85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2633760" cy="1494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460760" y="495360"/>
            <a:ext cx="4683240" cy="6362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292720" y="1052640"/>
            <a:ext cx="2879640" cy="2226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324000" y="1844640"/>
            <a:ext cx="2511360" cy="2133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3635280" y="0"/>
            <a:ext cx="5605560" cy="659772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611280" y="3716280"/>
            <a:ext cx="3066840" cy="2017800"/>
            <a:chOff x="611280" y="3716280"/>
            <a:chExt cx="3066840" cy="2017800"/>
          </a:xfrm>
        </p:grpSpPr>
        <p:pic>
          <p:nvPicPr>
            <p:cNvPr id="129" name="" descr=""/>
            <p:cNvPicPr/>
            <p:nvPr/>
          </p:nvPicPr>
          <p:blipFill>
            <a:blip r:embed="rId6"/>
            <a:stretch/>
          </p:blipFill>
          <p:spPr>
            <a:xfrm>
              <a:off x="611280" y="3716280"/>
              <a:ext cx="3066840" cy="19144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130" name=""/>
            <p:cNvSpPr/>
            <p:nvPr/>
          </p:nvSpPr>
          <p:spPr>
            <a:xfrm>
              <a:off x="900000" y="5229360"/>
              <a:ext cx="36036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" descr=""/>
          <p:cNvPicPr/>
          <p:nvPr/>
        </p:nvPicPr>
        <p:blipFill>
          <a:blip r:embed="rId7"/>
          <a:stretch/>
        </p:blipFill>
        <p:spPr>
          <a:xfrm>
            <a:off x="5003640" y="981000"/>
            <a:ext cx="2951280" cy="2316240"/>
          </a:xfrm>
          <a:prstGeom prst="rect">
            <a:avLst/>
          </a:prstGeom>
          <a:ln w="0">
            <a:noFill/>
          </a:ln>
        </p:spPr>
      </p:pic>
    </p:spTree>
  </p:cSld>
  <p:transition spd="med" advTm="31000"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500"/>
                            </p:stCondLst>
                            <p:childTnLst>
                              <p:par>
                                <p:cTn id="2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50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75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417920" y="404640"/>
            <a:ext cx="4726080" cy="6161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788000" y="757080"/>
            <a:ext cx="4356000" cy="610092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468360" y="260280"/>
            <a:ext cx="5184720" cy="1655640"/>
            <a:chOff x="468360" y="260280"/>
            <a:chExt cx="5184720" cy="1655640"/>
          </a:xfrm>
        </p:grpSpPr>
        <p:grpSp>
          <p:nvGrpSpPr>
            <p:cNvPr id="135" name=""/>
            <p:cNvGrpSpPr/>
            <p:nvPr/>
          </p:nvGrpSpPr>
          <p:grpSpPr>
            <a:xfrm>
              <a:off x="468360" y="260280"/>
              <a:ext cx="5184720" cy="1655640"/>
              <a:chOff x="468360" y="260280"/>
              <a:chExt cx="5184720" cy="1655640"/>
            </a:xfrm>
          </p:grpSpPr>
          <p:pic>
            <p:nvPicPr>
              <p:cNvPr id="13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360" y="404640"/>
                <a:ext cx="5022720" cy="151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>
                <a:off x="3853080" y="260280"/>
                <a:ext cx="1800000" cy="720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205080" y="2602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5651640" y="1557360"/>
            <a:ext cx="2305080" cy="1782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611280" y="1989000"/>
            <a:ext cx="3749760" cy="1255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611280" y="3500280"/>
            <a:ext cx="3529080" cy="1511280"/>
          </a:xfrm>
          <a:prstGeom prst="rect">
            <a:avLst/>
          </a:prstGeom>
          <a:ln w="0">
            <a:noFill/>
          </a:ln>
        </p:spPr>
      </p:pic>
    </p:spTree>
  </p:cSld>
  <p:transition spd="med" advTm="35000"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755640" y="-387360"/>
            <a:ext cx="4248000" cy="2448000"/>
            <a:chOff x="755640" y="-387360"/>
            <a:chExt cx="4248000" cy="244800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755640" y="-171360"/>
              <a:ext cx="362736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211640" y="-387360"/>
              <a:ext cx="792000" cy="244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341960" y="0"/>
            <a:ext cx="499248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rcRect l="16758" t="11122" r="18980" b="2249"/>
          <a:stretch/>
        </p:blipFill>
        <p:spPr>
          <a:xfrm>
            <a:off x="5651640" y="1268280"/>
            <a:ext cx="2220840" cy="37688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4000" y="177336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darkest day of the yea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5013360"/>
            <a:ext cx="59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Light retur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3141720"/>
            <a:ext cx="41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creation gives birth to her cre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1000">
    <p:fad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858000" cy="6067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rot="16200000">
            <a:off x="401760" y="1118520"/>
            <a:ext cx="164268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Wheel Is T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6000">
    <p:fad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7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03280" y="404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r Father Holds it with C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4017960" cy="516744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fad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005520" cy="65451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050920" y="0"/>
            <a:ext cx="5238720" cy="6165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2124000" y="0"/>
            <a:ext cx="5261040" cy="6524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2484360" y="333360"/>
            <a:ext cx="4338720" cy="59594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195640" y="573408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on will Re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1332000" y="-316080"/>
            <a:ext cx="6626160" cy="7490160"/>
          </a:xfrm>
          <a:prstGeom prst="rect">
            <a:avLst/>
          </a:prstGeom>
          <a:ln w="0">
            <a:noFill/>
          </a:ln>
        </p:spPr>
      </p:pic>
    </p:spTree>
  </p:cSld>
  <p:transition spd="med" advTm="121000">
    <p:fad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0"/>
                            </p:stCondLst>
                            <p:childTnLst>
                              <p:par>
                                <p:cTn id="3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8000"/>
                            </p:stCondLst>
                            <p:childTnLst>
                              <p:par>
                                <p:cTn id="4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68360" y="620640"/>
            <a:ext cx="4418280" cy="5524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00:36:28Z</dcterms:created>
  <dc:creator> </dc:creator>
  <dc:description/>
  <dc:language>en-US</dc:language>
  <cp:lastModifiedBy> </cp:lastModifiedBy>
  <dcterms:modified xsi:type="dcterms:W3CDTF">2005-12-03T13:41:37Z</dcterms:modified>
  <cp:revision>12</cp:revision>
  <dc:subject/>
  <dc:title>Slide 1</dc:title>
</cp:coreProperties>
</file>